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CC00-09A5-4830-9CA3-11197916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206A-FA4A-4DB6-90C0-628DB073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B34B-9F6F-40BB-945F-8A9186A0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223F-E548-4C64-A30F-088A879E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83405-7E5F-4A11-AB85-51B2FD72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00A52-3A85-43D7-BF58-D6E72AC5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B871E-0A80-480C-9F26-2303F5B9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2FB3D-3443-4B49-95AD-5A174EC4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9EA8E-2402-4503-A572-AA771B6E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E46B2-09BB-48DC-A892-314F88D8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48958-90C9-4ABA-B68E-4C3D3B60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F2EC-1B8C-41A0-A21A-8A7BBA39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60BE7-49E8-4A54-91E6-14C8BF64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EACE0-364F-451B-ADF9-F8B21706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1ACEF-B1F7-4CFD-8179-C8D495E4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77DCA-E4BC-46AF-A943-B6E2BFAD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4C1E6-7B71-4CD6-B4F3-157D8A64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DB0C-BF22-4B4D-9F1F-C8B223B3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64A7-24E9-43F8-B489-BFBA59D7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8E8-5BA1-4794-9AB2-71E9440B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4BF9-552F-4F4B-AA9C-573F7413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7B2F-FD45-4F61-B83F-06F11ECD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434D-986A-48D1-BF19-95166E57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C6A6-D171-45FA-B3E9-743B4538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d6068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85d1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9898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8a8a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78F0-B18D-4722-B569-DCF49F430E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d6068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85d1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9898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8a8a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2DC3-60CF-4BF9-A98E-B1829A49C7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989000"/>
            <a:ext cx="48592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"/>
              </a:rPr>
              <a:t>Полезные </a:t>
            </a:r>
            <a:br>
              <a:rPr sz="4800"/>
            </a:br>
            <a:r>
              <a:rPr b="0" lang="en-US" sz="4800" spc="-1" strike="noStrike">
                <a:solidFill>
                  <a:srgbClr val="6600cc"/>
                </a:solidFill>
                <a:latin typeface="Arial"/>
              </a:rPr>
              <a:t>ископаемые </a:t>
            </a:r>
            <a:br>
              <a:rPr sz="4800"/>
            </a:br>
            <a:r>
              <a:rPr b="0" lang="en-US" sz="4800" spc="-1" strike="noStrike">
                <a:solidFill>
                  <a:srgbClr val="6600cc"/>
                </a:solidFill>
                <a:latin typeface="Arial"/>
              </a:rPr>
              <a:t>Республики Коми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4067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Руды редких металлов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162864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уды вольфрама, молибдена и ол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35280" y="170028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уды редких элеме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867280" y="1628640"/>
            <a:ext cx="30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уды благородных метал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1741680" cy="1871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332400" y="2781360"/>
            <a:ext cx="1725840" cy="1871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635280" y="2708280"/>
            <a:ext cx="23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Приполярном и Полярном Урале известны редкометальные тантал-ниобиевые прояв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77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770" fill="hold"/>
                                        <p:tgtEl>
                                          <p:spTgt spid="2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77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770" fill="hold"/>
                                        <p:tgtEl>
                                          <p:spTgt spid="2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700280" cy="2397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Геологическое строение территории РК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1685880" cy="1944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1847880" cy="1913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11280" y="2637000"/>
            <a:ext cx="619308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рритория РК обладает сложным геологическим строением. Важнейшими структурами здесь является северо-восточная часть Русской платформы, северные части Уральской складчатой области и Предуральского краевого прогиб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ожное геологическое строение, неоднократное проявление мощных разновозрастных метаморфических, тектонических и магматических процессов, предопределили формирование на этой территории широкого комплекса полезных ископаемых разного возраста, генезиса и различной формационной принадлеж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Горючие полезные ископаемые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нимают ведущее место среди разрабатываемых в РК , составляют основу ее современной экономики, имеют большое значение для промышленности всей Росс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258920" y="2637000"/>
            <a:ext cx="29527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95640" y="342900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гленосные от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067280" y="4365720"/>
            <a:ext cx="1547640" cy="11635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flipH="1">
            <a:off x="3419280" y="2781360"/>
            <a:ext cx="936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56000" y="3429000"/>
            <a:ext cx="13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Горюч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лан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88000" y="2781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3429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сфальти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03640" y="2781360"/>
            <a:ext cx="1008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56360" y="35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о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08720" y="2708280"/>
            <a:ext cx="273528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93080" y="35002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фть и природный г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4292640"/>
            <a:ext cx="172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язаны с юрскими отложениями. Запаса-35млр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3933720"/>
            <a:ext cx="172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урочены к каменноугольным отложениям. Ресурсы составляют 10 млн. 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40360" y="414972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нимает площадь более 10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72428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РК 47 месторождений нефти и газ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Горно-химическое сырье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1844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осфори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8000" y="3429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35280" y="1916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3640" y="299736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менная  с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308720" y="1844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ар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692360" y="4221000"/>
            <a:ext cx="1311120" cy="1103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435640" y="4005360"/>
            <a:ext cx="1414440" cy="1450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68360" y="234936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язаны с осадочными отложениями юрского возра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0" y="2421000"/>
            <a:ext cx="18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вестны на Южном Тимане, в западном Притиманье, в Пермских отложени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36000" y="2421000"/>
            <a:ext cx="190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ым крупным по промышленным запасам является Хойлинское месторожд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Горно-техническое сырье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19280" y="2060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люор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80000" y="1989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рный хруста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16000" y="2997360"/>
            <a:ext cx="2376360" cy="1881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651640" y="2924280"/>
            <a:ext cx="199044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Природные  каменные материалы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1773360"/>
            <a:ext cx="20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вестняки  и доломи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3280" y="1844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ип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95640" y="1773360"/>
            <a:ext cx="244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лины и суглинки кирпичные и огнеупор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659640" y="1916280"/>
            <a:ext cx="20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счаники, кварциты, кристаллические пор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1439640" cy="1360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659640" y="3573360"/>
            <a:ext cx="216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годны для производства бутового камня, щебня и стеновых материал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335772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пользуются для производства кирпич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2708280"/>
            <a:ext cx="165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годны для изготовления облицовочных пли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84720" y="400536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годны для получения цемента и сухой штукатур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Камнесамоцветное сырье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1341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вар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0360" y="1413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уб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08720" y="1628640"/>
            <a:ext cx="29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делочные кам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96000" y="3716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га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38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ш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3860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рамо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716280"/>
            <a:ext cx="23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фрит и жаде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77080" y="364500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рпентини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627280" y="2060640"/>
            <a:ext cx="1487520" cy="1206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1390680" cy="1231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724360" y="4365720"/>
            <a:ext cx="1238400" cy="1334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2050920" y="4508640"/>
            <a:ext cx="1322640" cy="1176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250920" y="4494240"/>
            <a:ext cx="1368360" cy="1241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7596360" y="4365720"/>
            <a:ext cx="1274760" cy="1274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7"/>
          <a:stretch/>
        </p:blipFill>
        <p:spPr>
          <a:xfrm>
            <a:off x="3924360" y="4508640"/>
            <a:ext cx="1368360" cy="1319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flipH="1">
            <a:off x="1331640" y="2349360"/>
            <a:ext cx="460836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916360" y="2565360"/>
            <a:ext cx="33112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572000" y="2708280"/>
            <a:ext cx="194472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372000" y="2781360"/>
            <a:ext cx="43164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80360" y="2781360"/>
            <a:ext cx="72072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7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70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77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770" fill="hold"/>
                                        <p:tgtEl>
                                          <p:spTgt spid="1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77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770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77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770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77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770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4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7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70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77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770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Лечебно-минеральные воды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территории РК имеются многочисленные проявления подземных минеральных в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ой тип вод, имеющий широкое распространение: глубинные теплые (25-3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ْ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) и горячие (35-7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ْ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) высоко минерализованные хлоридно-натриевые и хлоридно-натриево-кальциевые рассолы, обогащенные бромом, а иногда иод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Рудные полезные ископаемые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1557360"/>
            <a:ext cx="22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рганцовые ру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80000" y="148428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ромовые ру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00720" y="1557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итановые ру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5120" y="2873520"/>
            <a:ext cx="131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23840" y="2873520"/>
            <a:ext cx="110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2637000"/>
            <a:ext cx="24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тречаются в девонских, каменноугольных, пермских отложен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35280" y="2637000"/>
            <a:ext cx="230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ходятся за пределами РК. Они приурочены к массивам ультроосновных пор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72360" y="2637000"/>
            <a:ext cx="23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вляются в РК базой развития горнодобывающей и металлургической промышленности. Запас руды составляет 30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1:58:17Z</dcterms:created>
  <dc:creator>ти</dc:creator>
  <dc:description/>
  <dc:language>en-US</dc:language>
  <cp:lastModifiedBy>студент</cp:lastModifiedBy>
  <dcterms:modified xsi:type="dcterms:W3CDTF">2009-11-26T13:10:43Z</dcterms:modified>
  <cp:revision>24</cp:revision>
  <dc:subject/>
  <dc:title>Полезные ископаемые Республики Коми</dc:title>
</cp:coreProperties>
</file>